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pent most of his life trying to prove the theories of Copern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effectively use th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man Catholic Philoso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and humans are the center of all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retrograde mo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difference between heliocentric and geocentr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as Ptolemy’s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as Galileo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eek philosop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lieved the Earth wa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was surrounded by water, air, and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n i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measure the distance to the sun and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VOLUTION is the cycle in which a planet orbits the sun (one y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maginary line on which an object ro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’s axis goes through its center from the North to the South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rotation different from rev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greed with ARISTOTLE’S 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trograde motion is the idea that a planet moves back and forth in a looping motion; “Mar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anded the ideas of Aristarc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ntified the positions of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408-2891-4749-BBF5-965C944B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CA9-79D6-431B-9360-B17240BB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E1A-269E-47F5-82D5-3EBD1D6D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5F5-A3F4-45D2-AF4F-E275145E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75EF-282F-4E9A-8C67-3FFEFEAD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94AD-D06C-452A-90C7-95F73549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E013-A55D-4D6A-A7F2-082490C0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EF3C-55DE-44D8-A6B3-BD2B8C5A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3022-CC82-429B-8D8C-64B2B348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2A44-4E0E-48DF-8E12-2397994A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0908-7C20-4F2D-8B6A-B4FD98B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C21-BFCD-4102-9F44-FB029ED3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5A69-2FB5-41CB-985F-6B74953A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70A8-9AA3-40C2-BE51-D3397C3F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C323-C377-44F4-A44A-11BDD5A7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591B-0BA7-4600-9F1F-5E8E179A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295C-4E95-4DFD-AEEB-76B8B13A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AF4-1B4E-4E66-B847-7D974D5B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7A5-DE37-4020-A51D-16EF409D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AA0-7D76-43E8-8FA2-51405497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942-16A8-4A7E-82B5-2C5BF11E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AB0-F598-4A0C-9CD4-77687D8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EFC-50F1-4533-875E-AD011141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3E6-EC55-4B2B-9C32-59BDDC1E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9190-F30E-4423-AF6E-62C870A412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45DD-E50F-4513-B3BF-E2CA47782F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Astronomy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ncient Philosoph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Galileo (1564-164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ent most of his life trying to prove the theories of Copernic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effectively use the telescop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ge 43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Roman Catholic Philosop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and humans are the center of all thin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retrograde mo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difference between heliocentric and geocentric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was Ptolemy’s theor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as Galileo importan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 (384-322) B.C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reek philosopher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elieved the Earth wa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was surrounded by water, air, and fi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 (3rd Century B.C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un i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measure the distance to the sun and mo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VOLUTION is the cycle in which a planet orbits the sun (one year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What is an axi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maginary line on which an object rot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’s axis goes through its center from the North to the South Po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ow is rotation different from revolu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Ptolemy (2nd century A.D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greed with ARISTOTLE’S 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trograde motion is the idea that a planet moves back and forth in a looping motion; “Mars” (p.434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pernicus (1473-154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xpanded the ideas of Aristarch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dentified the positions of the plane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22:06:38Z</dcterms:created>
  <dc:creator>Newport News</dc:creator>
  <dc:description/>
  <dc:language>en-US</dc:language>
  <cp:lastModifiedBy>Legion</cp:lastModifiedBy>
  <dcterms:modified xsi:type="dcterms:W3CDTF">2017-01-26T09:03:56Z</dcterms:modified>
  <cp:revision>5</cp:revision>
  <dc:subject/>
  <dc:title>Astronomy </dc:title>
</cp:coreProperties>
</file>